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1283-3BCE-4FA4-A4E7-38B52372C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51D-E036-467E-8C69-D8E9A064E5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D305-CB46-44AC-9625-39F0B73960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C95-E32F-42DB-80E5-0966B1E639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CA3F-FF2E-45BC-835F-3AD3463985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4FF-40E7-4EB9-990E-1F34D634FB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981-1162-4170-8AAC-BD56D5BC04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DDA4-9AB5-47A3-878B-4CF4E92084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CB54-22CB-4306-9E7B-FA411BFC0C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D15E-B5F6-44EA-BA20-327A95467F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09EC-3CEE-4893-8925-491B6D77DF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F7C-BC0B-4B01-AFE0-AFE405D938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B419-B4F2-47BC-9CA3-E88BE437BE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C5DE-53A3-4550-BAD3-A6BE99D991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0F39-7D31-43F5-84A8-026F4BF491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4671-1F1F-4ABF-B3FB-70D608F08E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4E13-9967-471B-9A12-B95BD74BA2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0720-4A70-4E68-A390-403F2197DC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7E7A-96CC-4612-8F4E-F72926370A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CC18-4393-4601-AD44-6F391A1C4F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DC98-D8B2-4081-90E2-0828A0B7EE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B1DC-7015-4550-9C94-44CBDFA873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170-3A09-406A-8B45-1D3B213E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7EA-9CD4-41EB-96D9-C3F03C54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FD2-EDB4-45F0-9C64-524E04D3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2EF-C8C6-45F3-A8C1-42EF0245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710F-06E3-4EB2-AA17-4F2318C2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3A96-175E-497F-856D-FCFEB111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CA99-B60F-4832-A8A0-41ACC4B0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E470-5A3A-4C15-89F3-1920B0E5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40DA-E609-4188-8C9C-5BE75113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A0C4-4163-4FB9-8D7B-FF96B413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314-1EBE-4EA5-810F-EAEF13E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FA1-12AF-424C-BFB2-5C7BC203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7172-5DD4-4E1E-9C7C-654FCEE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1F7D-BF96-4926-976B-5D85BB1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05A9-2218-4674-A691-B831A0A0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222A-D96A-4A29-874B-ED42072E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843A-5EF4-45FF-9301-0D5028CD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653F-73FA-44B3-A7FE-016F0190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27C8-92E2-4D01-B5A1-6BAB7448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5196-9D90-4715-A132-C7B4DB2A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6673-740D-458E-94FE-4DD66AD1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2581-BE2E-4588-A0E4-A3CFF091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3B7-2ED5-4B4F-A2E5-59278F62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2FA9-30FF-4642-BFAE-1EB1C915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8B1B-9449-4DA8-BC39-593A2CB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752E-5384-406B-9C70-5B17B3D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AE4A-826C-413A-AE1B-FF5D131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81C0-E6AE-4E33-B9D3-D377222E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DFB08-6FFA-4F19-B479-4C40B87C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AB8B-B110-46F6-974B-28ECD317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4CEF4-8EF0-4F60-A562-CFE8D873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D62D-A2B9-4C0A-BA4E-86FBE781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D29A-39CE-4BB4-BEB7-A3B638E7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A4D-45F4-4E3F-ADD2-38749320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6A271-0CA8-4BB1-9B97-FD0B9860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F012-1708-4A35-AB68-BD35565C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5DC4-37CB-41DE-8974-C90C6113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82B1-C021-4242-9ED9-55C2C9A9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0EBE-57F5-46CC-8616-ECDEEDE5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A880-7AAF-48C3-875C-9C23F03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84A3-E554-4928-A346-02FD9739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FB75-DB72-4D18-80E3-65C7C468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25CD-EE36-404C-92EE-309C0BEB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1C3D-FD50-4365-ADFE-E05D68B6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459-C42C-4524-8F74-F18405F2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3F01-A9DE-4BFB-9C34-8C559A50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5D9C4-9769-48B0-BAA0-50AA40F1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8654-4F46-448E-85AF-65E77C11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EA2E-00F6-4967-AF3F-905B2F15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4E10A-1BC5-4BF7-AC69-4C7500D1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5CE2-C595-430D-940A-7E3DB032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A9F74-D36D-4906-BFBD-0A17E941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E4302-05AA-43CF-8840-7893F60E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38010-6A7F-4688-944C-2045EE7D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EEE10-065D-4D8E-87B9-1F92C87E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D2E-D672-45C9-A3DF-11B4F5B0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6ABA-AFD7-41DF-9FBD-BB869107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25B99-E70D-4B24-95E1-7CAD83E2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15A16-F5BC-450B-9034-94F1C4C7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9FD98-23C5-427F-8CFF-48EE5D6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BD96E-FF7A-4A53-9BA7-17FB2F70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2887-CE4F-41BC-8BB7-E0411300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98E08-A1E7-4837-AAD1-83EF90FE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CEA5F-83E0-4A1C-8F45-876B04C0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4FAD-8796-4A62-A3BC-C6D72953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BC2AD-0DF8-4B62-840E-5F4D29B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A8E-012B-434D-9862-3662EAB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6DC4-0064-4D2A-86D2-4312969F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9DEE9-8DFF-49B6-8C05-9EDD94B0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1B4A7-D2F4-49A7-84FF-5299FAD4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AAC67-55EB-4C62-A4DE-9C9F51AC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3060A-E283-4EF3-AAFE-CB182D8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029B9-1035-4824-9BC3-E3665373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56CCE-7237-41BE-B8E2-6095E04C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DD701-68DC-4609-B856-41AA4F1A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F0634-4784-4EB9-93A5-63E8FAD5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DC3A-26B1-49BA-8CD9-CC15585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759-F1A6-41C1-AD5B-E92A7F9B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742DD-6AFA-4F5F-859E-9AFF81E2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3AB69-6A8D-4AC1-A34B-D3208474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4228A-BB56-4784-80B1-34FE4AFD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2886F-7AD1-4159-B5A0-732B45DD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2965D-99E5-4295-9F08-D2C2AB43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CFBD3-2E6F-4F17-863C-F307554C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41ABC-9367-4F60-A750-6915E3C7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EAE8-B965-46CC-9951-1548ED2A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9A44C-771F-481D-BA6C-4B40EBE9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900D7-57BB-48B0-BBDB-13863E7E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D6C-6A86-4605-8E82-986405C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CD019-7267-44B7-A4FC-EF1DF41F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720B4-FE8B-45A7-8E6D-9395A672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3A57-4306-49B9-9E82-4E48959A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641C6-EB19-4F1F-8BEB-2D01154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EFA44-5889-4DEF-BC09-2C8796E7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139BA-A051-4A54-82DF-86A45277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C814D-882F-469A-9EA0-E2601F16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4245-4EE2-49B9-B16D-F2750DACE25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0101"/>
              </a:gs>
              <a:gs pos="100000">
                <a:srgbClr val="ff6c6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021E-DE27-4456-90CE-8B2B21E77553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30E6-690F-490B-97E9-C5B2D949B6D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0101"/>
              </a:gs>
              <a:gs pos="100000">
                <a:srgbClr val="ff6c6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F402-0471-4D18-9F81-94637FC4DA1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4044-8DA8-4667-8C32-DD362D0205C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65A2-E57B-49F8-947F-087E386EED7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C22-22C4-43B3-A61D-26EA1867342D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682560" y="1341360"/>
            <a:ext cx="7778880" cy="2925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E444-1438-46FF-BAD8-70807D2560AE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AFAB-E0C2-4CDD-8CC3-93DF9079AE1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69800" y="1773360"/>
            <a:ext cx="8388360" cy="1708200"/>
          </a:xfrm>
          <a:prstGeom prst="rect">
            <a:avLst/>
          </a:prstGeom>
          <a:ln w="0">
            <a:noFill/>
          </a:ln>
        </p:spPr>
      </p:pic>
      <p:pic>
        <p:nvPicPr>
          <p:cNvPr id="354" name="Subtitle 2" descr=""/>
          <p:cNvPicPr/>
          <p:nvPr/>
        </p:nvPicPr>
        <p:blipFill>
          <a:blip r:embed="rId2"/>
          <a:stretch/>
        </p:blipFill>
        <p:spPr>
          <a:xfrm>
            <a:off x="469800" y="3645000"/>
            <a:ext cx="822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75920"/>
            <a:ext cx="8229600" cy="597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IEUX DE RENCONTR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APAA, dans les bars/Clubs pour gay, restaurant pour gay et aussi sur la rue Church qui est le village ga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Sont-ils acceptes ou rejeté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Il n’y a des mythes dans toutes sociétés, mais ici au Canada ils font face à moins de risque de rejet comparer à leur pays d’orig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450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s en place pour desservir les nouveaux arrivants  Africains, les Caribéens et les Noirs au Canada,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insi que les personnes qui s’identifient comme (LGBTQ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ans oublier ceux qui s’identifient autres que LGBTQ, ce sont les hommes ayant le sexe avec les hommes (HSH)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7576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6600"/>
                </a:solidFill>
                <a:latin typeface="Century Gothic"/>
              </a:rPr>
              <a:t>VIH: </a:t>
            </a:r>
            <a:r>
              <a:rPr b="1" lang="fr-CA" sz="3000" spc="-1" strike="noStrike" u="sng">
                <a:solidFill>
                  <a:srgbClr val="006600"/>
                </a:solidFill>
                <a:uFillTx/>
                <a:latin typeface="Century Gothic"/>
              </a:rPr>
              <a:t>Virus d’Immunodéficience Hum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6600"/>
                </a:solidFill>
                <a:latin typeface="Century Gothic"/>
              </a:rPr>
              <a:t>Attaque et affaiblit le système immunitai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6600"/>
                </a:solidFill>
                <a:latin typeface="Century Gothic"/>
              </a:rPr>
              <a:t>SIDA: </a:t>
            </a:r>
            <a:r>
              <a:rPr b="1" lang="fr-CA" sz="3000" spc="-1" strike="noStrike" u="sng">
                <a:solidFill>
                  <a:srgbClr val="006600"/>
                </a:solidFill>
                <a:uFillTx/>
                <a:latin typeface="Century Gothic"/>
              </a:rPr>
              <a:t>Syndrome d’Immunodéficience Acqui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6600"/>
                </a:solidFill>
                <a:latin typeface="Century Gothic"/>
              </a:rPr>
              <a:t>Une maladie chronique causée par l’infection du VIH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liquides corporels qui transmettent le VI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sang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sperm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liquide recta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secrétions vaginal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lait matern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modes de transmissions du VI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relations sexuelles non protégé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partage des accessoires sexuel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partage ou la réutilisation des seringues et des aiguill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D’un mère à son fœtus durant la grossesse, l’accouchement ou l’allaitem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2644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68000" y="1341360"/>
            <a:ext cx="8218440" cy="511344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 bais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peuvent se trouver dans la saliv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peuvent se transmettre par des coupures ou des plaies dans la bou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 touch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causent des bosses, des éruptions cutanée ou du pu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 or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De nombreuses ITS peuvent se trouver dans les fluides génitaux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s vagin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liquides corporels peuvent contenir tout type d’IT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s an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2060"/>
                </a:solidFill>
                <a:latin typeface="Century Gothic"/>
              </a:rPr>
              <a:t>La meilleure protection contre les ITS est de s’absteni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2060"/>
                </a:solidFill>
                <a:latin typeface="Century Gothic"/>
              </a:rPr>
              <a:t>Autres méthod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es préservatifs (féminins et masculins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’usage de seringue  uniqu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a fidélit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’isolem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pleine intég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problème d’immigration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fréquent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stigma et la discrimin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jugement et le mépris de la communaut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pauvret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95280" y="1628640"/>
            <a:ext cx="8291520" cy="482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entury Gothic"/>
              </a:rPr>
              <a:t>Le succès de l’organisation dans le domaine de servir la communauté LGBTQ Africaine et Caraibéenne, est dû à l’approche culturelle et linguistique que nous avons au sein d’APA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baba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PA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 une organisation qui fait de son mieux pour éduquer et véhiculer l’information sur le VIH ainsi que le support à toutes les couches de la communauté Africain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e lance donc un appel ardent à tous et à toutes de travailler ensemble pour aider à la bonne integration  des nouveaux arrivants LGBTQ francophones au Canad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Merci beaucoup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de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votre atten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57736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entury Gothic"/>
              </a:rPr>
              <a:t>Africans in Partnership Against AIDS (APAA) est une organisation  canadienne à but non lucratif créé par les membres de la communauté africaine, pour répondre aux différents défis posés par le VIH/SIDA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Century Gothic"/>
              </a:rPr>
              <a:t>Questions? 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0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Veuillez contacter: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Africans in Partnership Against Aid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314 rue Jarvis Suite 10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Toronto, Ontario M5B 2C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416-924-522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95280" y="1844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ôle de premier pl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eaderhip communautair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Expertise sur les questions  du SID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300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Century Gothic"/>
              </a:rPr>
              <a:t>Madame Fanta Ongoiba, Directrice générale d’APAA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628640"/>
            <a:ext cx="8229600" cy="4826160"/>
          </a:xfrm>
          <a:prstGeom prst="rect">
            <a:avLst/>
          </a:prstGeom>
          <a:solidFill>
            <a:srgbClr val="ffb8f2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Éduquer et soutenir les patients atteints du VIH / SIDA  dans un contexte linguistique et culturel approprié aux peuples africain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Créer une organisation et une communauté stable pour répondre à l'impact des effets du VIH / SIDA à travers le développement, le partenariat, la croissance et le développement communautai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especter les valeurs et les traditions culturelles et  répondre aux besoins de servic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 u="sng">
                <a:solidFill>
                  <a:srgbClr val="000099"/>
                </a:solidFill>
                <a:uFillTx/>
                <a:latin typeface="Century Gothic"/>
              </a:rPr>
              <a:t>L’immigration des Noir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ébute en160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e 1628  à 1800 : Esclaves Noirs sur la côte Es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À partir de 1900 :le nombre d’immigrants augment lentement,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ès 1960 : Augmentation considérable avec la réforme de politique d’immigrat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Qui so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D’où vienne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s’identifie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reconnait-on un LGBTQ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bien arrivent-ils en moyenne chaque anné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Lieux de rencont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Programme LGBTQ à APA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68000" y="259920"/>
            <a:ext cx="8218440" cy="619452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Qui so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Ils sont des Afro-Caribéens qui s’identifient  comme Lesbiennes, Gays, Bisexuels, Transexuels et en questionne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D’où viennent-il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	</a:t>
            </a: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Des divers pays d’Afrique et des Caraïb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Comment s’identifient-il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Se voient différents des autres de par leur orientation sexuell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2" descr=""/>
          <p:cNvPicPr/>
          <p:nvPr/>
        </p:nvPicPr>
        <p:blipFill>
          <a:blip r:embed="rId1"/>
          <a:stretch/>
        </p:blipFill>
        <p:spPr>
          <a:xfrm>
            <a:off x="-85680" y="1895400"/>
            <a:ext cx="2878200" cy="1139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96840" y="4127400"/>
            <a:ext cx="2232000" cy="2187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3"/>
          <a:stretch/>
        </p:blipFill>
        <p:spPr>
          <a:xfrm>
            <a:off x="6523200" y="4127400"/>
            <a:ext cx="2541600" cy="2187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4"/>
          <a:stretch/>
        </p:blipFill>
        <p:spPr>
          <a:xfrm>
            <a:off x="92160" y="262080"/>
            <a:ext cx="2431800" cy="1884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5"/>
          <a:stretch/>
        </p:blipFill>
        <p:spPr>
          <a:xfrm>
            <a:off x="6480000" y="262080"/>
            <a:ext cx="2584800" cy="2279520"/>
          </a:xfrm>
          <a:prstGeom prst="rect">
            <a:avLst/>
          </a:prstGeom>
          <a:ln w="0">
            <a:noFill/>
          </a:ln>
        </p:spPr>
      </p:pic>
      <p:sp>
        <p:nvSpPr>
          <p:cNvPr id="372" name="Title 2"/>
          <p:cNvSpPr/>
          <p:nvPr/>
        </p:nvSpPr>
        <p:spPr>
          <a:xfrm>
            <a:off x="6394320" y="2428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G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itle 2"/>
          <p:cNvSpPr/>
          <p:nvPr/>
        </p:nvSpPr>
        <p:spPr>
          <a:xfrm>
            <a:off x="-158760" y="6046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Bisex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tle 2"/>
          <p:cNvSpPr/>
          <p:nvPr/>
        </p:nvSpPr>
        <p:spPr>
          <a:xfrm>
            <a:off x="6410160" y="6046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Transex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itle 2"/>
          <p:cNvSpPr/>
          <p:nvPr/>
        </p:nvSpPr>
        <p:spPr>
          <a:xfrm>
            <a:off x="3168720" y="4233960"/>
            <a:ext cx="274788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Questio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6"/>
          <a:stretch/>
        </p:blipFill>
        <p:spPr>
          <a:xfrm>
            <a:off x="3462480" y="1932120"/>
            <a:ext cx="2157120" cy="26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000" y="259920"/>
            <a:ext cx="821844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Content Placeholder 2"/>
          <p:cNvSpPr/>
          <p:nvPr/>
        </p:nvSpPr>
        <p:spPr>
          <a:xfrm>
            <a:off x="684360" y="476280"/>
            <a:ext cx="8218440" cy="619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reconnait –on un LGBTQ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Il n’ya pas une façon ou une autre de comment reconnaitre un LGBTQ, car ils sont comme tout le monde, par contre d’autres s’affichent par leurs façons de faire ou d’agi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Combien arrivent-ils en moyen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A APAA nous voyons 18 personnes en moyenne par mois et, ils sont entre 18 à 30 ans et plus tous, africains et caribéens en majorité de religion chrétienn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9:17:27Z</dcterms:created>
  <dc:creator>felsoni</dc:creator>
  <dc:description/>
  <dc:language>en-US</dc:language>
  <cp:lastModifiedBy>ltshiswaka</cp:lastModifiedBy>
  <dcterms:modified xsi:type="dcterms:W3CDTF">2013-11-11T22:04:22Z</dcterms:modified>
  <cp:revision>141</cp:revision>
  <dc:subject/>
  <dc:title>Comportement sexuel relatif au VIH/SIDA</dc:title>
</cp:coreProperties>
</file>